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AC26-55DD-48C8-8551-6CFB3921CA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099E-984C-4D6E-817A-B2BC7B7D81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 проведения заседаний СНК в 2010 – 2011 гг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На кафедре запланировано на текущий учебный год 6 заседаний СНК (ежемесяч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6A8B-CA0E-4FA3-B384-9E94C8E75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Calibri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болевания щитовидной желе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казания к консервативным и оперативным методам при остром панкреатите, выбор тактики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Язвенные гастродуоденальные кровот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Кровотечения из варикознорасширенных вен пище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Малоинвазивные доступы в сосудист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4DE9-D30E-44A5-8F77-C78CF10D38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спективы дальнейшего развития и совершенств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D12C-0EA0-4443-AE82-C6888B82F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ый стен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4FA5-039C-44B7-9166-A42A09F465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актные данны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Адрес: г.Ярославль, Тутаевское шоссе, д.95, клиническая больница №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Телефон: 54-27-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1CB9-8D78-46B7-BB4E-D64078046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ЖДЕМ ВСЕХ ЖЕЛАЮЩИХ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A4F3-0A0E-4A4B-85C9-18CE488BF8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ведующий кафедрой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В.В Рыбач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уководитель СНК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И.Г. Дряже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редседатель СНК: А.А. Уткина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ароста СНК: М.К. Костюченко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Ответственный за работу молодых ученых: д.м.н., профессор   Н.Е. Руд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2459-E313-4B12-B4EE-06A9E9AF22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я СНК кафед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AEF9-1ED8-4470-B71A-634209FA97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55 по I960 г. кафедрой заведовал профессор А.А.Троицк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B02F-DC80-4980-AE5F-293E3350B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иссертаций из них 5 доктор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создания кафедры и по на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ни на ней функционирует СН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Благодаря которому студенты 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углубленно изучают акту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опросы хирургии, овладе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практическими хирург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навыками, занимаются научно-исследователь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315E-E316-4613-855C-870E6F4BB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и задачи СН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знакомить студентов с основами научно-исследовательской работы в хирургической пр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FF67-9C39-4F1C-BC83-2B8A9B11D4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НИРС и УИ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C172-0A36-4614-9772-FB37A113B3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4782-8CA4-43E7-A32C-DE776DB8FC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406-400E-4894-9F00-17B803D1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E43-A66A-4022-B053-014C3334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30D-54F4-415C-B10D-36E37121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3A4-883B-4A55-A605-9E12AB10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06C0-57C8-4955-8424-E271C9ED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8E79-5079-4F51-8B93-F9CF03DF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9126-7722-4A0D-AAA1-69A15402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B666-6E3F-402C-BA54-562C14CC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B2F1-6E05-4D39-8AAF-16DDB4F4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76B3-0C02-44F5-B8F7-51C5C3E2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0048-8C66-437D-870A-65368B53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F8D6-12E6-408F-812A-395A9746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3B52-E4A2-433A-9A07-B985D42B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82B1-AC92-48FB-BD69-3CFEF795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9BF9-0E48-47BF-B204-E1679028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48ED-7C6D-447F-9235-3AFC5730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A94D-0882-4A3E-8C6B-47E81B00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6FF-B402-40A0-92E6-DBBE4DD4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860-9A02-4750-B1BC-3F729B72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345-C369-47B2-B09F-D2189B45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77B-131F-4718-9313-38C2C578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E422-CE47-4984-AA84-99CFAB42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0A6-D43D-4515-8855-7F8F41A6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02E-7E3F-41DE-9956-35F32392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DE0C-27D8-485A-AD5A-4D9257A08658}" type="slidenum">
              <a:rPr b="1" lang="en-US" sz="10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3082-50F4-4F05-BF22-4E693672B283}" type="slidenum">
              <a:rPr b="0" lang="en-US" sz="10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5.gif"/><Relationship Id="rId6" Type="http://schemas.openxmlformats.org/officeDocument/2006/relationships/image" Target="../media/image24.gif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6699"/>
                </a:solidFill>
                <a:latin typeface="Impact"/>
              </a:rPr>
              <a:t>СНК</a:t>
            </a:r>
            <a:endParaRPr b="0" lang="en-US" sz="9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0" name="Подзаголовок 6" descr=""/>
          <p:cNvPicPr/>
          <p:nvPr/>
        </p:nvPicPr>
        <p:blipFill>
          <a:blip r:embed="rId1"/>
          <a:stretch/>
        </p:blipFill>
        <p:spPr>
          <a:xfrm>
            <a:off x="-23760" y="2189160"/>
            <a:ext cx="9375840" cy="227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ems_star_shimmering_hg_clr"/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лан проведения заседаний СНК в 2010 – 2011 гг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кафедре запланировано на текущий учебный год 6 заседаний СНК (ежемесячно)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00" y="28584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28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Заболевания щитовидной железы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оказания к консервативным и оперативным методам при остром панкреатите, выбор тактики л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Язвенные гастродуоденальные кровот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Кровотечения из варикознорасширенных вен пищевода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Малоинвазивные доступы в сосудистой хирургии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ерспективы дальнейшего развития и совершенствования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нформационный стенд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41" name="Рисунок 4" descr="P1290846.JPG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Контактные данные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Адрес: г.Ярославль, Тутаевское шоссе, д.95, клиническая больница №9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Телефон: 54-27-64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40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7" name="Picture 91" descr="medical_hero_sld"/>
          <p:cNvPicPr/>
          <p:nvPr/>
        </p:nvPicPr>
        <p:blipFill>
          <a:blip r:embed="rId1"/>
          <a:stretch/>
        </p:blipFill>
        <p:spPr>
          <a:xfrm>
            <a:off x="2411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2" descr="medical_hero_trs"/>
          <p:cNvPicPr/>
          <p:nvPr/>
        </p:nvPicPr>
        <p:blipFill>
          <a:blip r:embed="rId2"/>
          <a:stretch/>
        </p:blipFill>
        <p:spPr>
          <a:xfrm>
            <a:off x="4670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3" descr="medical_hero_prt"/>
          <p:cNvPicPr/>
          <p:nvPr/>
        </p:nvPicPr>
        <p:blipFill>
          <a:blip r:embed="rId3"/>
          <a:stretch/>
        </p:blipFill>
        <p:spPr>
          <a:xfrm>
            <a:off x="6929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4" descr="medical_hero_qx"/>
          <p:cNvPicPr/>
          <p:nvPr/>
        </p:nvPicPr>
        <p:blipFill>
          <a:blip r:embed="rId4"/>
          <a:stretch/>
        </p:blipFill>
        <p:spPr>
          <a:xfrm>
            <a:off x="152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5" descr="ems_rotating"/>
          <p:cNvPicPr/>
          <p:nvPr/>
        </p:nvPicPr>
        <p:blipFill>
          <a:blip r:embed="rId5"/>
          <a:stretch/>
        </p:blipFill>
        <p:spPr>
          <a:xfrm>
            <a:off x="5943600" y="3657600"/>
            <a:ext cx="3029040" cy="3029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6" descr="ems_star_shimmering_hg_clr"/>
          <p:cNvPicPr/>
          <p:nvPr/>
        </p:nvPicPr>
        <p:blipFill>
          <a:blip r:embed="rId6"/>
          <a:stretch/>
        </p:blipFill>
        <p:spPr>
          <a:xfrm>
            <a:off x="152280" y="363852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22268"/>
                </a:solidFill>
                <a:latin typeface="Impact"/>
              </a:rPr>
              <a:t>ЖДЕМ ВСЕХ ЖЕЛАЮЩИХ!</a:t>
            </a:r>
            <a:endParaRPr b="1" lang="en-US" sz="66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54" name="Рисунок 10" descr="P1290850.JPG"/>
          <p:cNvPicPr/>
          <p:nvPr/>
        </p:nvPicPr>
        <p:blipFill>
          <a:blip r:embed="rId7"/>
          <a:stretch/>
        </p:blipFill>
        <p:spPr>
          <a:xfrm>
            <a:off x="2286000" y="14292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P1290853.JPG"/>
          <p:cNvPicPr/>
          <p:nvPr/>
        </p:nvPicPr>
        <p:blipFill>
          <a:blip r:embed="rId8"/>
          <a:stretch/>
        </p:blipFill>
        <p:spPr>
          <a:xfrm>
            <a:off x="4643280" y="142920"/>
            <a:ext cx="2143440" cy="15717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4" descr="P1290843.JPG"/>
          <p:cNvPicPr/>
          <p:nvPr/>
        </p:nvPicPr>
        <p:blipFill>
          <a:blip r:embed="rId9"/>
          <a:stretch/>
        </p:blipFill>
        <p:spPr>
          <a:xfrm>
            <a:off x="142920" y="142920"/>
            <a:ext cx="2071800" cy="15717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5" descr="P1290849.JPG"/>
          <p:cNvPicPr/>
          <p:nvPr/>
        </p:nvPicPr>
        <p:blipFill>
          <a:blip r:embed="rId10"/>
          <a:stretch/>
        </p:blipFill>
        <p:spPr>
          <a:xfrm>
            <a:off x="6929280" y="142920"/>
            <a:ext cx="2071800" cy="15717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99"/>
                </a:solidFill>
                <a:latin typeface="Impact"/>
              </a:rPr>
              <a:t>Кафедра госпитальной хирургии</a:t>
            </a:r>
            <a:endParaRPr b="0" lang="en-US" sz="48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4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ведующий кафедрой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В.В Рыбач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уководитель СНК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И.Г. Дряжен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редседатель СНК: А.А. Уткина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ароста СНК: М.К. Костюченко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Ответственный за работу молодых ученых: д.м.н., профессор   Н.Е. Рудне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стория СНК кафедры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8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78552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55 по I960 г. кафедрой заведовал профессор А.А.Троицк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иссертаций из них 5 доктор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создания кафедры и по н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ни на ней функционирует С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Благодаря которому студенты 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углубленно изучают акту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вопросы хирургии, овладе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рактическими хирург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навыками, занимаются научно-исследовательской дея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P1290845.JPG"/>
          <p:cNvPicPr/>
          <p:nvPr/>
        </p:nvPicPr>
        <p:blipFill>
          <a:blip r:embed="rId1"/>
          <a:stretch/>
        </p:blipFill>
        <p:spPr>
          <a:xfrm>
            <a:off x="6643800" y="3357720"/>
            <a:ext cx="2071440" cy="2714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Цели и задачи СНК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ознакомить студентов с основами научно-исследовательской работы в хирургической практике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1" name="Рисунок 4" descr="P1290852.JPG"/>
          <p:cNvPicPr/>
          <p:nvPr/>
        </p:nvPicPr>
        <p:blipFill>
          <a:blip r:embed="rId1"/>
          <a:stretch/>
        </p:blipFill>
        <p:spPr>
          <a:xfrm>
            <a:off x="4714920" y="4000680"/>
            <a:ext cx="3429000" cy="24285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P1290849.JPG"/>
          <p:cNvPicPr/>
          <p:nvPr/>
        </p:nvPicPr>
        <p:blipFill>
          <a:blip r:embed="rId2"/>
          <a:stretch/>
        </p:blipFill>
        <p:spPr>
          <a:xfrm>
            <a:off x="571680" y="228600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Основные направления НИРС и УИРС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0" y="7858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9" name="Рисунок 3" descr="x_8929a059.jpg"/>
          <p:cNvPicPr/>
          <p:nvPr/>
        </p:nvPicPr>
        <p:blipFill>
          <a:blip r:embed="rId2"/>
          <a:stretch/>
        </p:blipFill>
        <p:spPr>
          <a:xfrm>
            <a:off x="514368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P1290864.JPG"/>
          <p:cNvPicPr/>
          <p:nvPr/>
        </p:nvPicPr>
        <p:blipFill>
          <a:blip r:embed="rId3"/>
          <a:stretch/>
        </p:blipFill>
        <p:spPr>
          <a:xfrm>
            <a:off x="28584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P1290865.JPG"/>
          <p:cNvPicPr/>
          <p:nvPr/>
        </p:nvPicPr>
        <p:blipFill>
          <a:blip r:embed="rId4"/>
          <a:stretch/>
        </p:blipFill>
        <p:spPr>
          <a:xfrm>
            <a:off x="2428920" y="435780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124" name="Содержимое 7" descr="x_9f3de834.jpg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2843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x_370a7bd7.jpg"/>
          <p:cNvPicPr/>
          <p:nvPr/>
        </p:nvPicPr>
        <p:blipFill>
          <a:blip r:embed="rId3"/>
          <a:stretch/>
        </p:blipFill>
        <p:spPr>
          <a:xfrm>
            <a:off x="0" y="0"/>
            <a:ext cx="4357800" cy="2857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x_52958ca5.jpg"/>
          <p:cNvPicPr/>
          <p:nvPr/>
        </p:nvPicPr>
        <p:blipFill>
          <a:blip r:embed="rId4"/>
          <a:stretch/>
        </p:blipFill>
        <p:spPr>
          <a:xfrm>
            <a:off x="478620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x_a7a0ef3d.jpg"/>
          <p:cNvPicPr/>
          <p:nvPr/>
        </p:nvPicPr>
        <p:blipFill>
          <a:blip r:embed="rId5"/>
          <a:stretch/>
        </p:blipFill>
        <p:spPr>
          <a:xfrm>
            <a:off x="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sbotnici_sovremennie.jpg"/>
          <p:cNvPicPr/>
          <p:nvPr/>
        </p:nvPicPr>
        <p:blipFill>
          <a:blip r:embed="rId6"/>
          <a:stretch/>
        </p:blipFill>
        <p:spPr>
          <a:xfrm>
            <a:off x="2357280" y="178596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9:12:36Z</dcterms:created>
  <dc:creator>Настя</dc:creator>
  <dc:description/>
  <dc:language>en-US</dc:language>
  <cp:lastModifiedBy>LEGION</cp:lastModifiedBy>
  <dcterms:modified xsi:type="dcterms:W3CDTF">2014-11-06T13:43:15Z</dcterms:modified>
  <cp:revision>34</cp:revision>
  <dc:subject/>
  <dc:title>СНО</dc:title>
</cp:coreProperties>
</file>